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9EE0-AED2-44F8-84AD-7BBA857A8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616-25B3-4729-99E7-FA4248795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587-5347-4C70-A4EA-0CBAA619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FF4-B510-47B1-BEEC-0138586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80D-CC9E-4CD9-9DDA-1277A6BE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97B-657F-4624-BE05-836BD8F9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885-F052-42AC-9263-115EE4B6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CBB-5EB9-482C-8B07-2952320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E7A-2002-4456-BEB0-BE796362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890-AA2D-49E8-8989-4111465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AFF-6E0F-4F6C-88BD-9EF57F92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AE5-0A4C-40DD-9CF9-5AE56A3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D87-6A2A-4498-98AE-5E54B08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F7F-90CF-4CD6-92CF-154B7DD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F26-A8BD-4267-9B38-E8905581F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Ausburn Model of Human Perceptual/Cognitive Functioning and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457200" y="2133720"/>
            <a:ext cx="2209680" cy="1066680"/>
          </a:xfrm>
          <a:prstGeom prst="ellipse">
            <a:avLst/>
          </a:prstGeom>
          <a:solidFill>
            <a:srgbClr val="b9cde5"/>
          </a:solidFill>
          <a:ln w="63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14400" y="228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uman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3520" y="9907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09480" y="11430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form Physiology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676520" y="9907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743200" y="14479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752480" y="1219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819520" y="1600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 Preferences &amp; Capa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886200"/>
            <a:ext cx="2057400" cy="1143000"/>
          </a:xfrm>
          <a:prstGeom prst="ellipse">
            <a:avLst/>
          </a:prstGeom>
          <a:solidFill>
            <a:srgbClr val="ff9f9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200400" y="2666880"/>
            <a:ext cx="3657600" cy="243864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4"/>
          <p:cNvSpPr/>
          <p:nvPr/>
        </p:nvSpPr>
        <p:spPr>
          <a:xfrm>
            <a:off x="3352680" y="3733920"/>
            <a:ext cx="33530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5"/>
          <p:cNvSpPr/>
          <p:nvPr/>
        </p:nvSpPr>
        <p:spPr>
          <a:xfrm>
            <a:off x="3429000" y="4495680"/>
            <a:ext cx="3276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7238880" y="3352680"/>
            <a:ext cx="1447920" cy="1447920"/>
          </a:xfrm>
          <a:prstGeom prst="ellipse">
            <a:avLst/>
          </a:prstGeom>
          <a:solidFill>
            <a:srgbClr val="81ffba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105520" y="5334120"/>
            <a:ext cx="2819160" cy="1143000"/>
          </a:xfrm>
          <a:prstGeom prst="rect">
            <a:avLst/>
          </a:prstGeom>
          <a:solidFill>
            <a:srgbClr val="ffcc66"/>
          </a:solidFill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62120" y="4114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276720" y="2819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3276720" y="3809880"/>
            <a:ext cx="35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rt Term Memory          Long-Term Memory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029200" y="3505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ver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5105520" y="4267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3733920" y="4572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gnitive St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36"/>
          <p:cNvCxnSpPr>
            <a:stCxn id="51" idx="4"/>
          </p:cNvCxnSpPr>
          <p:nvPr/>
        </p:nvCxnSpPr>
        <p:spPr>
          <a:xfrm>
            <a:off x="1067040" y="1905120"/>
            <a:ext cx="76320" cy="228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38"/>
          <p:cNvCxnSpPr/>
          <p:nvPr/>
        </p:nvCxnSpPr>
        <p:spPr>
          <a:xfrm flipH="1">
            <a:off x="1904400" y="1904760"/>
            <a:ext cx="15300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40"/>
          <p:cNvCxnSpPr/>
          <p:nvPr/>
        </p:nvCxnSpPr>
        <p:spPr>
          <a:xfrm flipH="1">
            <a:off x="2513880" y="2132640"/>
            <a:ext cx="30564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Down Arrow 42"/>
          <p:cNvSpPr/>
          <p:nvPr/>
        </p:nvSpPr>
        <p:spPr>
          <a:xfrm>
            <a:off x="1222200" y="3200400"/>
            <a:ext cx="301680" cy="68580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47"/>
          <p:cNvCxnSpPr/>
          <p:nvPr/>
        </p:nvCxnSpPr>
        <p:spPr>
          <a:xfrm>
            <a:off x="2590560" y="4266720"/>
            <a:ext cx="61020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0"/>
          <p:cNvCxnSpPr>
            <a:endCxn id="61" idx="2"/>
          </p:cNvCxnSpPr>
          <p:nvPr/>
        </p:nvCxnSpPr>
        <p:spPr>
          <a:xfrm>
            <a:off x="6705360" y="3885840"/>
            <a:ext cx="53388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56"/>
          <p:cNvCxnSpPr>
            <a:stCxn id="60" idx="3"/>
          </p:cNvCxnSpPr>
          <p:nvPr/>
        </p:nvCxnSpPr>
        <p:spPr>
          <a:xfrm flipV="1">
            <a:off x="6705720" y="4419360"/>
            <a:ext cx="609840" cy="3052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58"/>
          <p:cNvSpPr/>
          <p:nvPr/>
        </p:nvSpPr>
        <p:spPr>
          <a:xfrm>
            <a:off x="72388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” of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61"/>
          <p:cNvSpPr/>
          <p:nvPr/>
        </p:nvSpPr>
        <p:spPr>
          <a:xfrm>
            <a:off x="7467480" y="4724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2"/>
          <p:cNvSpPr/>
          <p:nvPr/>
        </p:nvSpPr>
        <p:spPr>
          <a:xfrm>
            <a:off x="5334120" y="5562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4:01:22Z</dcterms:created>
  <dc:creator>Ausburn</dc:creator>
  <dc:description/>
  <dc:language>en-US</dc:language>
  <cp:lastModifiedBy>Ausburn</cp:lastModifiedBy>
  <dcterms:modified xsi:type="dcterms:W3CDTF">2010-01-26T04:57:12Z</dcterms:modified>
  <cp:revision>14</cp:revision>
  <dc:subject/>
  <dc:title>Ausburn Model of Human Perceptual/Cognitive Functioning and Learning</dc:title>
</cp:coreProperties>
</file>